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0F1-5F79-4794-AB05-5DB958B8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AC4-9622-4CFB-A69A-4770553E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8B1-287A-470D-A0E4-85EEAA17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7E6-C9BF-41E2-A441-48252BA7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214-C546-4A5B-A98B-E3363A15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99C-2282-4A30-88FB-E2C31BF1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247-57FE-4C71-A1E0-6CD6E2C4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E64-E3A0-4CC9-85FE-F95B76B3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BDE-4AD6-4938-9181-4FDA9FB4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594-3F6A-4E8C-B453-BAC36201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71E-D1F6-4D31-B3BA-EB66FBCA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A0CF-F809-46CE-8793-9D354E6A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80B5-E57F-47C7-BD25-4600520E0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人大太天月日明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又 友文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朋友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=</a:t>
            </a: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fri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这天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=</a:t>
            </a: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this d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文人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=schol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人人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=peo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98989"/>
                </a:solidFill>
                <a:latin typeface="Calibri"/>
                <a:ea typeface="宋体"/>
              </a:rPr>
              <a:t>又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___</a:t>
            </a:r>
            <a:r>
              <a:rPr b="0" lang="zh-CN" sz="2200" spc="-1" strike="noStrike">
                <a:solidFill>
                  <a:srgbClr val="898989"/>
                </a:solidFill>
                <a:latin typeface="Calibri"/>
                <a:ea typeface="宋体"/>
              </a:rPr>
              <a:t>又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___ =not only ___ but also 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~PP3941.WAV" descr=""/>
          <p:cNvPicPr/>
          <p:nvPr/>
        </p:nvPicPr>
        <p:blipFill>
          <a:blip r:embed="rId1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这个朋友又好又日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C:\Documents and Settings\lsabey\Local Settings\Temporary Internet Files\Content.IE5\XSJY32GK\MPj04392480000[1].jpg"/>
          <p:cNvPicPr/>
          <p:nvPr/>
        </p:nvPicPr>
        <p:blipFill>
          <a:blip r:embed="rId1"/>
          <a:stretch/>
        </p:blipFill>
        <p:spPr>
          <a:xfrm>
            <a:off x="2438280" y="1523880"/>
            <a:ext cx="4572000" cy="4919760"/>
          </a:xfrm>
          <a:prstGeom prst="rect">
            <a:avLst/>
          </a:prstGeom>
          <a:ln w="0">
            <a:noFill/>
          </a:ln>
        </p:spPr>
      </p:pic>
      <p:pic>
        <p:nvPicPr>
          <p:cNvPr id="47" name="~PP1999.WAV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这天她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帮助老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人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  <a:ea typeface="宋体"/>
              </a:rPr>
              <a:t>xiang3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  <a:ea typeface="宋体"/>
              </a:rPr>
              <a:t>bang1zhu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  <a:ea typeface="宋体"/>
              </a:rPr>
              <a:t>la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5" descr="C:\Documents and Settings\lsabey\Local Settings\Temporary Internet Files\Content.IE5\XSJY32GK\MPj04075010000[1]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pic>
        <p:nvPicPr>
          <p:cNvPr id="51" name="~PP2543.WAV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明天他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帮助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朋友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xiang3 bang1zhu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  wanted to help</a:t>
            </a: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3" descr="C:\Documents and Settings\lsabey\Local Settings\Temporary Internet Files\Content.IE5\FGJUL90C\MPj04388130000[1].jpg"/>
          <p:cNvPicPr/>
          <p:nvPr/>
        </p:nvPicPr>
        <p:blipFill>
          <a:blip r:embed="rId1"/>
          <a:stretch/>
        </p:blipFill>
        <p:spPr>
          <a:xfrm>
            <a:off x="3657600" y="2819520"/>
            <a:ext cx="254016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~PP2869.WAV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MS PGothic"/>
              </a:rPr>
              <a:t>天天她 </a:t>
            </a:r>
            <a:r>
              <a:rPr b="0" lang="ja-JP" sz="4400" spc="-1" strike="noStrike">
                <a:solidFill>
                  <a:srgbClr val="ff0000"/>
                </a:solidFill>
                <a:latin typeface="Calibri"/>
                <a:ea typeface="MS PGothic"/>
              </a:rPr>
              <a:t>帮助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MS PGothic"/>
              </a:rPr>
              <a:t>人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lsabey\Local Settings\Temporary Internet Files\Content.IE5\7ARHBD3L\MPj04394670000[1].jpg"/>
          <p:cNvPicPr/>
          <p:nvPr/>
        </p:nvPicPr>
        <p:blipFill>
          <a:blip r:embed="rId1"/>
          <a:stretch/>
        </p:blipFill>
        <p:spPr>
          <a:xfrm>
            <a:off x="671400" y="1523880"/>
            <a:ext cx="7558200" cy="4632480"/>
          </a:xfrm>
          <a:prstGeom prst="rect">
            <a:avLst/>
          </a:prstGeom>
          <a:ln w="0">
            <a:noFill/>
          </a:ln>
        </p:spPr>
      </p:pic>
      <p:pic>
        <p:nvPicPr>
          <p:cNvPr id="59" name="~PP3445.WAV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326240" y="1981080"/>
            <a:ext cx="496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帮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--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arm he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ld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~PP1637.WAV" descr=""/>
          <p:cNvPicPr/>
          <p:nvPr/>
        </p:nvPicPr>
        <p:blipFill>
          <a:blip r:embed="rId1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54:01Z</dcterms:created>
  <dc:creator>itsuser</dc:creator>
  <dc:description/>
  <dc:language>en-US</dc:language>
  <cp:lastModifiedBy>itsuser</cp:lastModifiedBy>
  <dcterms:modified xsi:type="dcterms:W3CDTF">2009-04-16T19:45:54Z</dcterms:modified>
  <cp:revision>8</cp:revision>
  <dc:subject/>
  <dc:title>人大太天月日明朋 又 友文这</dc:title>
</cp:coreProperties>
</file>